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03F-3DE0-4A19-937A-86B5455C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9F0-D11F-4C5B-9740-DBAE0FF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3AA-66CB-4DB4-B599-8886A636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884-D1BF-43F7-B9E0-C3ECA49A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FDE-E74E-44A3-AB4D-C23BE848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1A0-18E3-44FA-89AC-B7165B0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4CD-6610-479C-9347-9CC24EE7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EE6-C8DF-4E6B-99AA-69428481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DF3-6BE4-4470-90A4-8CD0FB3B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417-ABAF-454B-BAD5-9DF336E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255-469B-466E-B09F-178744B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EDB-9C0A-4218-81FD-AF36DE0B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4EEA1-C4C7-4070-B2F4-B3604B28DCF5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75982-5EF3-44F3-89F1-4BDC3E37DA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Lucida Grande CY"/>
                <a:ea typeface="Lucida Grande CY"/>
              </a:rPr>
              <a:t>Neon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434340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rick Sulliv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rendan Hopp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3" descr="green-neon.jpg"/>
          <p:cNvPicPr/>
          <p:nvPr/>
        </p:nvPicPr>
        <p:blipFill>
          <a:blip r:embed="rId1"/>
          <a:stretch/>
        </p:blipFill>
        <p:spPr>
          <a:xfrm>
            <a:off x="228600" y="22860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neo-neon-collection-lee-broom.jpg"/>
          <p:cNvPicPr/>
          <p:nvPr/>
        </p:nvPicPr>
        <p:blipFill>
          <a:blip r:embed="rId2"/>
          <a:stretch/>
        </p:blipFill>
        <p:spPr>
          <a:xfrm>
            <a:off x="5251320" y="3962520"/>
            <a:ext cx="3206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neral Inf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bol-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ic # 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# 1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od # 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p Name Noble G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dorl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orl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 protons, neutrons, and electr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3" descr="neon-girl.jpg"/>
          <p:cNvPicPr/>
          <p:nvPr/>
        </p:nvPicPr>
        <p:blipFill>
          <a:blip r:embed="rId1"/>
          <a:stretch/>
        </p:blipFill>
        <p:spPr>
          <a:xfrm>
            <a:off x="6350040" y="685800"/>
            <a:ext cx="233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U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cume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levision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ve meters tub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3X_neon_tvOR.jpg"/>
          <p:cNvPicPr/>
          <p:nvPr/>
        </p:nvPicPr>
        <p:blipFill>
          <a:blip r:embed="rId1"/>
          <a:stretch/>
        </p:blipFill>
        <p:spPr>
          <a:xfrm>
            <a:off x="510552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to buy ne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 neon shoes, tvs. bibles, girls, lights, cars and everything el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kes things c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ks trip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 it’s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!!!!!!!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blue neon kit.jpg"/>
          <p:cNvPicPr/>
          <p:nvPr/>
        </p:nvPicPr>
        <p:blipFill>
          <a:blip r:embed="rId1"/>
          <a:stretch/>
        </p:blipFill>
        <p:spPr>
          <a:xfrm>
            <a:off x="5079960" y="3352680"/>
            <a:ext cx="3606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36:41Z</dcterms:created>
  <dc:creator>CFF</dc:creator>
  <dc:description/>
  <dc:language>en-US</dc:language>
  <cp:lastModifiedBy>CFF</cp:lastModifiedBy>
  <dcterms:modified xsi:type="dcterms:W3CDTF">2009-11-20T13:38:35Z</dcterms:modified>
  <cp:revision>5</cp:revision>
  <dc:subject/>
  <dc:title>Neon</dc:title>
</cp:coreProperties>
</file>